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C4A1-5D75-4580-A55A-96F9BD552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52FB-BB5C-4412-9010-CF0A8D50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12B9-FC51-4C4D-AAA4-A253B5C05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FD8F-E07D-41A9-8198-D1AD6390C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C39D-2326-4402-BC62-CF459806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1DB6-C9ED-4C57-9C52-DE8DB2FC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7F59-E42B-4655-B472-B67632C7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9D81-63E2-47CA-941C-C0BA69CD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0D38-7696-4B31-BA00-E75B5FC8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147D-10FA-4A89-B74F-9F6931F5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422F-F01B-4192-909D-F31AAFF4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DFD6-97BA-444E-84FA-1158F98E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BA37-1D4B-4721-8211-C0B9F8D3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3DB6-418C-48A1-A673-8F913840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E8B9-4688-48F6-AD2F-D93B8CDA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00E4-6A95-4BA8-A11A-A9492227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A826-A147-4F44-8EB6-18DF090FE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BC5D-99FF-4A64-B17F-BC94404E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FFD0-47AB-4A1E-AEFA-34936B7C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7032-FB35-4A4C-A7E7-7F15D418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6FE0-54DB-4A09-9699-966BD365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06CF-E706-44F8-9615-B56357F4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01BF-1544-4248-89A1-8A179CB7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4BE8-C297-4C64-B3AF-BC6C677A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aeae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71A9-C5CE-4FCA-BEDC-FEB874E17255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5d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eae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5d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eae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5d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aeae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43D6-C4F8-49D5-892A-37F71864CC4F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5d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eaec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5d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aeae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e0247"/>
                </a:solidFill>
                <a:latin typeface="Arial Black"/>
                <a:ea typeface="굴림"/>
              </a:rPr>
              <a:t>La casa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e1458"/>
                </a:solidFill>
                <a:latin typeface="Arial"/>
                <a:ea typeface="굴림"/>
              </a:rPr>
              <a:t>P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e1458"/>
                </a:solidFill>
                <a:latin typeface="Arial"/>
                <a:ea typeface="굴림"/>
              </a:rPr>
              <a:t>Erica R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aeae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0247"/>
                </a:solidFill>
                <a:latin typeface="Arial Black"/>
                <a:ea typeface="굴림"/>
              </a:rPr>
              <a:t>Es una casa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  <a:ea typeface="굴림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6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5d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1458"/>
                </a:solidFill>
                <a:latin typeface="Arial"/>
                <a:ea typeface="굴림"/>
              </a:rPr>
              <a:t>La casa es grend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038480" y="251460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aeae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Arial Black"/>
                <a:ea typeface="굴림"/>
              </a:rPr>
              <a:t> </a:t>
            </a:r>
            <a:r>
              <a:rPr b="1" lang="en-US" sz="4400" spc="-1" strike="noStrike">
                <a:solidFill>
                  <a:srgbClr val="6e0247"/>
                </a:solidFill>
                <a:latin typeface="Arial Black"/>
                <a:ea typeface="굴림"/>
              </a:rPr>
              <a:t>Es uno baño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6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5d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1458"/>
                </a:solidFill>
                <a:latin typeface="Arial"/>
                <a:ea typeface="굴림"/>
              </a:rPr>
              <a:t>El baño es bon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176520" y="4093920"/>
            <a:ext cx="163188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8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505480" y="2057400"/>
            <a:ext cx="262872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aeae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0247"/>
                </a:solidFill>
                <a:latin typeface="Arial Black"/>
                <a:ea typeface="굴림"/>
              </a:rPr>
              <a:t>Es una cocina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  <a:ea typeface="굴림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6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5d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1458"/>
                </a:solidFill>
                <a:latin typeface="Arial"/>
                <a:ea typeface="굴림"/>
              </a:rPr>
              <a:t>La cocina es nue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38280" y="2328480"/>
            <a:ext cx="3706920" cy="23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8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4038480" cy="29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aeae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0247"/>
                </a:solidFill>
                <a:latin typeface="Arial Black"/>
                <a:ea typeface="굴림"/>
              </a:rPr>
              <a:t>Es una sala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6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5d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1458"/>
                </a:solidFill>
                <a:latin typeface="Arial"/>
                <a:ea typeface="굴림"/>
              </a:rPr>
              <a:t>La sala es mod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81120" y="2436480"/>
            <a:ext cx="362268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8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95680" y="2057400"/>
            <a:ext cx="4496040" cy="348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aeae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e0247"/>
                </a:solidFill>
                <a:latin typeface="Arial Black"/>
              </a:rPr>
              <a:t>Es uno comedor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  <a:ea typeface="굴림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6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5d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1458"/>
                </a:solidFill>
                <a:latin typeface="Arial"/>
                <a:ea typeface="굴림"/>
              </a:rPr>
              <a:t>El comedor es be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435280" y="2436480"/>
            <a:ext cx="3368520" cy="26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8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4419720" cy="3403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aeae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0247"/>
                </a:solidFill>
                <a:latin typeface="Arial Black"/>
                <a:ea typeface="굴림"/>
              </a:rPr>
              <a:t>Es uno </a:t>
            </a:r>
            <a:r>
              <a:rPr b="1" lang="es-ES" sz="4400" spc="-1" strike="noStrike">
                <a:solidFill>
                  <a:srgbClr val="6e0247"/>
                </a:solidFill>
                <a:latin typeface="Arial Black"/>
              </a:rPr>
              <a:t>cuarto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  <a:ea typeface="굴림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3927600" cy="30225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30040" y="2119320"/>
            <a:ext cx="4257720" cy="39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5d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1458"/>
                </a:solidFill>
                <a:latin typeface="Arial"/>
                <a:ea typeface="굴림"/>
              </a:rPr>
              <a:t>El cautro es luj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aeae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0247"/>
                </a:solidFill>
                <a:latin typeface="Arial Black"/>
                <a:ea typeface="굴림"/>
              </a:rPr>
              <a:t>Es uno jardin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6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5d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1458"/>
                </a:solidFill>
                <a:latin typeface="Arial"/>
                <a:ea typeface="굴림"/>
              </a:rPr>
              <a:t>El jardin es vie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2398680"/>
            <a:ext cx="39276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8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0" y="1733400"/>
            <a:ext cx="4343400" cy="2824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aeae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  <a:ea typeface="굴림"/>
              </a:rPr>
              <a:t>Es uno </a:t>
            </a:r>
            <a:r>
              <a:rPr b="1" lang="es-ES" sz="4400" spc="-1" strike="noStrike">
                <a:solidFill>
                  <a:srgbClr val="000000"/>
                </a:solidFill>
                <a:latin typeface="Arial Black"/>
              </a:rPr>
              <a:t>dormitorio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5d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El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ormitorio es peq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28840" y="2666520"/>
            <a:ext cx="3435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8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191120" y="1981080"/>
            <a:ext cx="4647960" cy="3481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7:40:17Z</dcterms:created>
  <dc:creator>riceeri</dc:creator>
  <dc:description/>
  <dc:language>en-US</dc:language>
  <cp:lastModifiedBy>Owner</cp:lastModifiedBy>
  <dcterms:modified xsi:type="dcterms:W3CDTF">2011-10-27T22:41:12Z</dcterms:modified>
  <cp:revision>10</cp:revision>
  <dc:subject/>
  <dc:title>La casa</dc:title>
</cp:coreProperties>
</file>